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A8C-805E-4D67-A5BE-B64766C7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101-C3DC-48DD-8D7F-07783EBF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DCA-BB29-40B0-A22E-FF0C0B8F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C3D-A7A3-4C85-9B82-4C2A2FA2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AFBE-FAB5-425A-9176-A43D6ABA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F64E-2202-46B9-954E-04CD5BEF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F467-720B-49EE-8023-6BF8A581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56AA-8C17-423B-A3F9-0A85CD4A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972A-3106-4E1F-B57F-AF841F83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BBAA-DAD8-4D03-8D72-DC40C54A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12C4-980A-40BA-B1FA-4CFC633C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442-915E-4392-8332-E45F1014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BD25-A8D3-4E73-8706-F3E3964F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E7B6-6A9D-4118-A116-C951A839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2434-7909-440E-8922-CD23347D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8F8C-D724-4B07-9370-97678DF0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BB93-16CB-448D-A4CF-84E4856F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0ABE-8292-4AA9-8276-6F5DF351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76F-C6CC-4FE2-87A0-B82B8BBF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1FD-FD5F-4143-88A0-B0252929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DE2-3DAD-4EAF-A85C-21A0F466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BBEC-4540-4465-B8AF-F023438D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C29E-D30E-4177-A51C-5047A276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A78-A0D3-48CF-A6B2-6CE3F923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0036-90D7-4E15-953C-20F7BD0978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CC6A-1AFD-4BB9-891B-85E7DF250F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sson #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ic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yllabus and Tutoring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what this course will ent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the amount of work I must put forth to succeed in this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Shrader’s ingenious Advanced Tutoring sch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/28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5638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Get parent signature on syllabu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knowledgement for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4419720"/>
            <a:ext cx="8077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 though the syllabus thoroughly. Then write one or two detailed and specific questions that you would like to ask about this cour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gular Kinematics Equations…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as linear eq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      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v        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a      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t          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1752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1752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1752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2400" y="1752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600200" y="2286000"/>
                <a:ext cx="5897520" cy="400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d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θ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Δv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Δω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ad</m:t>
                        </m:r>
                        <m:r>
                          <m:t xml:space="preserve">⇒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α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ar to angu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209680"/>
            <a:ext cx="6019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imple ratio connects linear equations to angular equation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Δ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 / r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Δ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change in 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= change in arc 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 = radius of cir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457200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55627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Using the equations found in today’s notes, derive the equations v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 and a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2133720"/>
            <a:ext cx="1981080" cy="18288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30481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848720" y="2300400"/>
            <a:ext cx="60948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872840" y="2814480"/>
            <a:ext cx="3038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17524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81680" y="1752480"/>
            <a:ext cx="2133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924680" y="2362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61048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229600" y="2666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each of Newton’s laws in det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Net force (horse &amp; cart probl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splitting vectors into x &amp; y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solving for unknown ang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457200"/>
            <a:ext cx="3581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sson #2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ic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ton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/29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54864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pare for tomorrow’s ex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4343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 the materials in the back of the room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nstrate examples of Newton’s law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irst l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(Law of Inertia) An object at rest will remain at rest and an object in motion will remain in motion in a straight line unless acted on by an outside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581280"/>
            <a:ext cx="822960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cond l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 net force acting on an object will cause the object to accelerate in the same direction as the net force appli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cceleration is directly proportional to the net force applied and inversely proportional to the mass of the object. (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m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ird L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For every force applied there must be a counter acting force equal in magnitude and opposite in dir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2767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Horse pushes on the ground, the ground pushes back with an equal amount of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46483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…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then they cancel out and the net force is zero…. But then how can a horse pull a car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can a horse pull a c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206960" cy="3174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867280" y="3733920"/>
            <a:ext cx="228600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600200" y="3733920"/>
            <a:ext cx="2362320" cy="0"/>
          </a:xfrm>
          <a:prstGeom prst="line">
            <a:avLst/>
          </a:prstGeom>
          <a:ln w="63360">
            <a:solidFill>
              <a:srgbClr val="ffffff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81680" y="29718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gr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n ho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28954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horse on 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480060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looking at net force, we only count the forces acting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object not don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the difference between equations that are definitions and are deri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ive equations from other equ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dently manipulate any algebraic eq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/31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762120"/>
            <a:ext cx="449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sson #3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ic: Definition vs. Derivation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5334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“Practice Deriving Equations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4114800"/>
            <a:ext cx="8077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rite an equation that you know is an example of a definition and write an equation that you know is an example of a deriva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inition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equations that are written directly from the definition of the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a simple rat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locity = change in distance /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= change in velocity /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= net force /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rivation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useful equations created through the algebraic manipulation of two or more definition eq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more complex than definition eq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=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+ ½a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2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1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762120"/>
            <a:ext cx="7239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sson #4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pic: Describing Motion and Rotational Kinema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676520"/>
            <a:ext cx="7924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relative 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rotational motion using familiar kinema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e problems involving angular displacement,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locity, and accel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4114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w fast are we moving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334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ngular equation deri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7:39:45Z</dcterms:created>
  <dc:creator>End User</dc:creator>
  <dc:description/>
  <dc:language>en-US</dc:language>
  <cp:lastModifiedBy>End User</cp:lastModifiedBy>
  <dcterms:modified xsi:type="dcterms:W3CDTF">2006-09-01T15:10:54Z</dcterms:modified>
  <cp:revision>17</cp:revision>
  <dc:subject/>
  <dc:title>Lesson #1 8/29/06 </dc:title>
</cp:coreProperties>
</file>